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D340-FEDF-430D-92FE-E6694B30F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CD85-FF36-4A81-9F97-9B19D0149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6103-A4DB-48A3-A3BE-45991EA8C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960A-C151-4AE9-B259-3F822C25B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6FA0-0829-42D6-B4EE-E9876291F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D132-0533-4B97-9AE5-A966785E5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0DC6-4749-4AEA-89C4-09729DA95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FD76-F313-48C9-806C-74429B3C8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DAFA-9E4B-480C-9259-E4DA48957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5821-C48E-47EF-B370-EB4D8D08D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BB60-6141-4FC1-894C-70A492EBA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34AD-8262-4B9A-B910-F3BFAA23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C751-7B3D-4CD9-AB4A-54B6F57A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1C9F-7BBF-42B4-B4C4-4ACE6D1B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F2E5-7FB1-4BF3-BBA7-89AAF2D1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C5A7-400B-4C43-BA05-09FCB1F2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3526-D966-4DE8-8AC5-7E123830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3AF5-BE63-45CB-A708-B87D95B2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3C04-4BB5-417F-943E-2CD04FD9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8C43-A1C0-40A3-9499-E70964A0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BF9D-BC5D-4E2F-980A-1A6B0B58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7F4C-40D3-4114-8BF1-631A7FC9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4DA5-24C3-4E41-9188-D4D75CC7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A2A6-ADB0-4BEB-BFA4-C9C7F627E98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Engravers MT"/>
              </a:rPr>
              <a:t>Sociology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98989"/>
                </a:solidFill>
                <a:latin typeface="Freestyle Script"/>
              </a:rPr>
              <a:t>The Study of Society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4" descr="crook.gif"/>
          <p:cNvPicPr/>
          <p:nvPr/>
        </p:nvPicPr>
        <p:blipFill>
          <a:blip r:embed="rId1"/>
          <a:stretch/>
        </p:blipFill>
        <p:spPr>
          <a:xfrm>
            <a:off x="2362320" y="3276720"/>
            <a:ext cx="2314440" cy="246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girl_skates.gif"/>
          <p:cNvPicPr/>
          <p:nvPr/>
        </p:nvPicPr>
        <p:blipFill>
          <a:blip r:embed="rId2"/>
          <a:stretch/>
        </p:blipFill>
        <p:spPr>
          <a:xfrm>
            <a:off x="6019920" y="3429000"/>
            <a:ext cx="195732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boy_happy3.gif"/>
          <p:cNvPicPr/>
          <p:nvPr/>
        </p:nvPicPr>
        <p:blipFill>
          <a:blip r:embed="rId3"/>
          <a:stretch/>
        </p:blipFill>
        <p:spPr>
          <a:xfrm>
            <a:off x="838080" y="4038480"/>
            <a:ext cx="1362240" cy="173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boy_ayyyyyy.gif"/>
          <p:cNvPicPr/>
          <p:nvPr/>
        </p:nvPicPr>
        <p:blipFill>
          <a:blip r:embed="rId4"/>
          <a:stretch/>
        </p:blipFill>
        <p:spPr>
          <a:xfrm>
            <a:off x="4724280" y="4114800"/>
            <a:ext cx="120024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Max Webe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solidFill>
            <a:srgbClr val="ffc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terested in the interactions of society and the individ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xamined the role of individual beliefs and feelings and how each played in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eveloped the concept of the “Ideal type”, a model that can be used to measure reality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ample:  the “ideal” marri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http://4.bp.blogspot.com/_o-mZcI7xTCY/TKSi50tpY3I/AAAAAAAADSs/8PrQw2KGA80/s1600/Max+Weber,+sociologo.jpg"/>
          <p:cNvPicPr/>
          <p:nvPr/>
        </p:nvPicPr>
        <p:blipFill>
          <a:blip r:embed="rId1"/>
          <a:stretch/>
        </p:blipFill>
        <p:spPr>
          <a:xfrm>
            <a:off x="6626160" y="4164120"/>
            <a:ext cx="237168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Theories of Sociology…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solidFill>
            <a:srgbClr val="7ffd01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Are built on evidence that is gathere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rom that evidence a clear conclusion can be ma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Example, “this is why people steal,” or “this is why women make less than m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www.training-my-computer.com/images/sherlock.gif"/>
          <p:cNvPicPr/>
          <p:nvPr/>
        </p:nvPicPr>
        <p:blipFill>
          <a:blip r:embed="rId1"/>
          <a:stretch/>
        </p:blipFill>
        <p:spPr>
          <a:xfrm>
            <a:off x="1905120" y="2971800"/>
            <a:ext cx="1990440" cy="2057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1.bp.blogspot.com/-ZTZzH7VhUT4/T0o-qLgb4JI/AAAAAAAAAFY/UlkCQiZI0hI/s400/fc9conclusion_imagen.jpg"/>
          <p:cNvPicPr/>
          <p:nvPr/>
        </p:nvPicPr>
        <p:blipFill>
          <a:blip r:embed="rId2"/>
          <a:stretch/>
        </p:blipFill>
        <p:spPr>
          <a:xfrm>
            <a:off x="4648320" y="3048120"/>
            <a:ext cx="24462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eestyle Script"/>
              </a:rPr>
              <a:t>For Examp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an you tell what type of people we are talking about from the clues given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on #1…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Is able to sit on leather while traveling from place to pla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eparates himself from others at sporting even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Monday through Friday is seen wearing a silk objec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Enjoys hitting a small white object with a staf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His life partner goes by the name “Muffy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erson # 2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an be seen drinking out of an aluminum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ight be noctu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as been known to pray to a porcelain de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od of choice is microwave nood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eestyle Script"/>
              </a:rPr>
              <a:t>For Examp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erson # 3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ble to produce their own domic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xtremely resourceful when it comes to making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ften found in areas of high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eestyle Script"/>
              </a:rPr>
              <a:t>For Examp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http://ncfhaexpert.com/wp-content/uploads/2011/07/college-kid.jpg"/>
          <p:cNvPicPr/>
          <p:nvPr/>
        </p:nvPicPr>
        <p:blipFill>
          <a:blip r:embed="rId1"/>
          <a:stretch/>
        </p:blipFill>
        <p:spPr>
          <a:xfrm>
            <a:off x="4800600" y="457200"/>
            <a:ext cx="3943440" cy="4438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rson #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01920" y="-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rson #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dcentric.wamu.org/files/2011/04/bizman-flickr.jpg"/>
          <p:cNvPicPr/>
          <p:nvPr/>
        </p:nvPicPr>
        <p:blipFill>
          <a:blip r:embed="rId2"/>
          <a:stretch/>
        </p:blipFill>
        <p:spPr>
          <a:xfrm>
            <a:off x="0" y="533520"/>
            <a:ext cx="4572000" cy="3047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ttp://graphics8.nytimes.com/images/2009/02/26/nyregion/boxman.480.jpg"/>
          <p:cNvPicPr/>
          <p:nvPr/>
        </p:nvPicPr>
        <p:blipFill>
          <a:blip r:embed="rId3"/>
          <a:stretch/>
        </p:blipFill>
        <p:spPr>
          <a:xfrm>
            <a:off x="533520" y="3753000"/>
            <a:ext cx="4572000" cy="3105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10"/>
          <p:cNvSpPr/>
          <p:nvPr/>
        </p:nvSpPr>
        <p:spPr>
          <a:xfrm>
            <a:off x="5257800" y="5410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rson #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eft Arrow 11"/>
          <p:cNvSpPr/>
          <p:nvPr/>
        </p:nvSpPr>
        <p:spPr>
          <a:xfrm>
            <a:off x="5334120" y="5867280"/>
            <a:ext cx="1218960" cy="381240"/>
          </a:xfrm>
          <a:prstGeom prst="leftArrow">
            <a:avLst>
              <a:gd name="adj1" fmla="val 50000"/>
              <a:gd name="adj2" fmla="val 49959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What Sociology Is…</a:t>
            </a: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990360"/>
            <a:ext cx="8610480" cy="472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study of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8732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ystematic study of social behavior in human groups that look for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att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732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cus on the influence of social relationships on people’s behavior and attitu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732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cus on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group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732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http://snakegrrl.files.wordpress.com/2010/09/community2.gif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4419720" y="3600360"/>
            <a:ext cx="387648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eestyle Script"/>
              </a:rPr>
              <a:t>What Do Sociologists Do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Teach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: at the high school or colleg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Advise: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 work for businesses, nonprofits and governments as directors of research, policy analysts, consultants, human resource mana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Research: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 advanced degrees – urban planning, criminolog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Counsel: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erapi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http://nortonbooks.typepad.com/.a/6a00d83534ac5b69e2010536ec1c5c970c-pi"/>
          <p:cNvPicPr/>
          <p:nvPr/>
        </p:nvPicPr>
        <p:blipFill>
          <a:blip r:embed="rId1"/>
          <a:stretch/>
        </p:blipFill>
        <p:spPr>
          <a:xfrm>
            <a:off x="6394320" y="4108320"/>
            <a:ext cx="2908440" cy="29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http://www.abcteach.com/free/c/candyheartpink.jpg"/>
          <p:cNvPicPr/>
          <p:nvPr/>
        </p:nvPicPr>
        <p:blipFill>
          <a:blip r:embed="rId1"/>
          <a:stretch/>
        </p:blipFill>
        <p:spPr>
          <a:xfrm>
            <a:off x="6858000" y="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eestyle Script"/>
              </a:rPr>
              <a:t>Sociology ...How We Me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biggest factor that lead to the development of sociology  was the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b9ff7"/>
                </a:solidFill>
                <a:latin typeface="Century Gothic"/>
              </a:rPr>
              <a:t>INDUSTRIAL REVOL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ginning in England, new machines and factory organizations transformed the lives of ordinary peop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http://limerickwriter.files.wordpress.com/2011/11/industrialrevolutionworkers1.jpg"/>
          <p:cNvPicPr/>
          <p:nvPr/>
        </p:nvPicPr>
        <p:blipFill>
          <a:blip r:embed="rId2"/>
          <a:stretch/>
        </p:blipFill>
        <p:spPr>
          <a:xfrm>
            <a:off x="4395960" y="4022640"/>
            <a:ext cx="3985920" cy="28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eestyle Script"/>
              </a:rPr>
              <a:t>Key Figur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uguste Com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rench Philosop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nfluenced by the scientific methods of the natural sci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Believed sociologists should be concerned with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TWO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basic problem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http://t2.gstatic.com/images?q=tbn:ANd9GcQv8gQYE_nR0kMWB5ngBdBAh4UqR0D8KtGOfKm7HSsanmfCYiHftZbgTIp2BQ"/>
          <p:cNvPicPr/>
          <p:nvPr/>
        </p:nvPicPr>
        <p:blipFill>
          <a:blip r:embed="rId1"/>
          <a:stretch/>
        </p:blipFill>
        <p:spPr>
          <a:xfrm>
            <a:off x="6407280" y="109440"/>
            <a:ext cx="1803240" cy="2908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finkorswim.com/wp-content/uploads/2009/12/350__1_PaperEskimo-Tag-2.jpg.png"/>
          <p:cNvPicPr/>
          <p:nvPr/>
        </p:nvPicPr>
        <p:blipFill>
          <a:blip r:embed="rId2"/>
          <a:stretch/>
        </p:blipFill>
        <p:spPr>
          <a:xfrm rot="772200">
            <a:off x="4730760" y="509904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http://www.englishexercises.org/makeagame/my_documents/my_pictures/2011/may/66E_number1bluewithstarsbalvb2.gif"/>
          <p:cNvPicPr/>
          <p:nvPr/>
        </p:nvPicPr>
        <p:blipFill>
          <a:blip r:embed="rId3"/>
          <a:stretch/>
        </p:blipFill>
        <p:spPr>
          <a:xfrm rot="21276000">
            <a:off x="2436480" y="49510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reestyle Script"/>
              </a:rPr>
              <a:t>And those two major problems are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3520" y="1905120"/>
            <a:ext cx="4114800" cy="4114800"/>
          </a:xfrm>
          <a:prstGeom prst="rect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oblem one: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Century Gothic"/>
              </a:rPr>
              <a:t>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forces (such as kings or economic prosperity) bring order to a socie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105160" y="1905120"/>
            <a:ext cx="3809880" cy="4114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oblem two:</a:t>
            </a:r>
            <a:r>
              <a:rPr b="1" lang="en-US" sz="2400" spc="-1" strike="noStrike" u="sng">
                <a:solidFill>
                  <a:srgbClr val="00b0f0"/>
                </a:solidFill>
                <a:uFillTx/>
                <a:latin typeface="Century Gothic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forces (such as new ideas) bring change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e believed the social world could be studied with the same scientific accuracy as the natural wor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Herbert Spence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09480" y="1676520"/>
            <a:ext cx="7848720" cy="4525920"/>
          </a:xfrm>
          <a:prstGeom prst="rect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Influenced by Industrial Revol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nd answers in the work of Charles Darwin, who developed the theory of natural sele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Believed in the concept of survival of the fitte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eory of Social Darwinis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ociocultural advance is the product of intergroup conflict and competition and the socially elite clas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http://economicstheorywiki.wikispaces.com/file/view/herbert_spencer.jpg/134466969/herbert_spencer.jpg"/>
          <p:cNvPicPr/>
          <p:nvPr/>
        </p:nvPicPr>
        <p:blipFill>
          <a:blip r:embed="rId1"/>
          <a:stretch/>
        </p:blipFill>
        <p:spPr>
          <a:xfrm>
            <a:off x="7375680" y="-195120"/>
            <a:ext cx="1639800" cy="26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Karl Marx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294920"/>
            <a:ext cx="4952880" cy="52578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German who reacted to the social conditions created by the Industrial Revolu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Believed that the organization of the economy is basic to society and from where all other beliefs grow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ociety was divided into two groups – those who control the economy and those who do no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http://2.bp.blogspot.com/_PGD1du5dtr8/S8uDf9Rl0DI/AAAAAAAAAGQ/KuIuzJrS7_A/s1600/Marx.jpg"/>
          <p:cNvPicPr/>
          <p:nvPr/>
        </p:nvPicPr>
        <p:blipFill>
          <a:blip r:embed="rId1"/>
          <a:stretch/>
        </p:blipFill>
        <p:spPr>
          <a:xfrm>
            <a:off x="5394240" y="1762200"/>
            <a:ext cx="3451320" cy="44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Freestyle Script"/>
              </a:rPr>
              <a:t>Emile Durkheim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599840"/>
            <a:ext cx="6629400" cy="4876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at forces keep a society together?”  He answered this question in terms of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UN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en an element of society fulfills a true function, or purpose, it must be important in keeping things order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http://thesocietypages.org/socimages/files/2009/10/durkheim_wheaties.jpg"/>
          <p:cNvPicPr/>
          <p:nvPr/>
        </p:nvPicPr>
        <p:blipFill>
          <a:blip r:embed="rId1"/>
          <a:stretch/>
        </p:blipFill>
        <p:spPr>
          <a:xfrm>
            <a:off x="6705720" y="3352680"/>
            <a:ext cx="22557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7:32:28Z</dcterms:created>
  <dc:creator>Unknown User</dc:creator>
  <dc:description/>
  <dc:language>en-US</dc:language>
  <cp:lastModifiedBy>John Hampton</cp:lastModifiedBy>
  <dcterms:modified xsi:type="dcterms:W3CDTF">2012-05-08T17:33:27Z</dcterms:modified>
  <cp:revision>37</cp:revision>
  <dc:subject/>
  <dc:title>Sociology</dc:title>
</cp:coreProperties>
</file>